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E574-C315-418B-AFBF-9AB39BC74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FEDF-606A-4B71-AD90-34745B97A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A6B3-51BB-4962-A111-7490F9E52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4214-344F-46B1-A70F-0DE122CF3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90AC8-7EE8-4D47-99D3-9AF7A158B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16121-1328-4F58-A2FE-5393F01CD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24389-25B1-440F-88DF-D1B711A10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6B997-C9D6-4B66-AA54-8A8CBA046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8AF12-CB85-41AA-98FF-698472170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04ED3-219E-4575-A1BA-6C1759DB2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206BA-48E2-4165-9AF1-FC2A2C3BE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CB6C-E221-43B7-B069-221387020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F7336-693E-47F7-971D-07AC96197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C957A-30C7-4CC4-95B0-D68AC1CBA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C4875-B68F-480F-889F-3ED2B8FBC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0757E-5AD5-489C-9A43-7616B158B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0F816-5E9A-4296-8557-D1CF512A3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98A6DD-7C08-44B1-80A6-BB466BB57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83F5C9-33F8-404E-B5F5-AF731BD2F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17A175-F9CF-42A9-8541-47A38DCC6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ECF237-A1F6-445D-B78B-2BF630364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8216E0-65E7-4D3F-8FC8-88279B76C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197B-7000-4D75-8B82-3DE64F0C3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F6ED08-3F34-4FCD-A91E-16491F842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2F0A4A-3C64-4061-A6E2-A6A7544D2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DB904A-6873-47CD-B72A-E4870D7B8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6D8914-4C98-442E-8153-6CEA3FC16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150E2B-50F6-42FC-8492-5C4C1A027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9FD05A-1734-4A9F-8F81-8063720F9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D96E63-7D70-48F2-82E5-9D4783269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D450FF-9E5A-49F7-BA75-B42C3BB25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C65232-3B81-4308-ACF9-A1484042F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D6D776-A849-49B1-9480-605268A64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89D6-3767-4C0B-9CB6-1EE3544DD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81B936-8B01-4F70-B513-498AF28B8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D3AF26-21A6-4AA2-BBC3-62362745D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71DF36-E5A6-4E5D-B9E5-AE62DDB5C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882FFF-1DF1-44C4-8D76-CD898F185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E885EA-E145-4C9B-8948-FE54383BB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2ABA58-9187-4C37-9C53-2698FC94B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354C80-ABAB-4807-981A-A1ACBD5F3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521AAC-47C1-4ECA-946A-83ADC6783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69B87B-13CB-4FE9-872F-43CE1290A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F8AD5C-2A27-4658-B79D-9A49A6D39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A0E3-01C9-446C-B492-5752901E7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CBCFB5-20A3-4451-9037-5B2ED147F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671F28E-67BC-4B06-BCBE-0ED8EF56F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3C3280-E3AD-449C-97FD-967CC7B13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C48843-171E-43C0-A86F-7EE2CCCC6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FAC5AE-2B83-4F18-9E56-F45FA3224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F9C1F3-DAC1-44E9-A41E-AD2B4FA61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D94142-1509-4B08-A9AC-D3029A4A5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AC85C7-F8C3-4373-9CB4-5ED4E2466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6E7340A-5428-4832-A0A5-388E171AB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47CE89-8119-4CE3-974C-C4B09AC0A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E100-E66C-42EF-82A1-47D08F0B4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DA9709-DAFF-4B3F-962C-C509138C8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E1B148A-4DAB-4EE1-A7B0-CAC6235B7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852DFBA-795F-4324-AA32-18E3EEF0B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01AB47A-F452-4AB9-B0B9-FAEDE5B7A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C9B6663-08AD-4DDD-BAAF-EF177634B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ACD1845-D8AC-4619-94D9-7135162D0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5992712-5656-46C6-8FB0-DD2AAFF3C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40B86BE-877F-436A-A0C4-6AB364E70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122B653-B4D9-4763-AF29-C4334663B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E225BEB-20C9-43B2-9582-BD01F5E2D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D654-E047-42B0-BEA1-CA53B21E8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DA1EDAF-89BD-4AEF-82A1-2FAA5C06D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EB29458-3D3E-477E-9850-37623DDCB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6A3891E-F8F8-46B9-925C-B131794B9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181390A-666B-4032-BFB3-73C63B8EE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FC1D1DE-66B3-477A-B06D-E3816415D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2B05F0F-FA2D-47B0-A65D-841203D03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0C176E9-44C2-4C17-8F95-066ED7089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4AD9861-EF91-4F5F-AEB6-8A81C6731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751E746-72AB-4651-85FA-BEB00BF15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BC6224C-B4D5-45EC-9C2E-382B7EADB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5876-F772-4806-ACA1-4C34F4305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CC23A52-2B16-4413-82FA-9AC778B91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616C928-A1F1-4EE1-9C07-2F65071D3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0485BDC-EA35-4B5A-AC10-39165F4C6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2B20BB2-F289-4FA0-B1EC-09CD06C57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32FD016-C201-49C9-AB71-87400B248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54E1-92C8-4624-94C7-E36B2836E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DC82F-49F5-40C5-BA1F-3A43A3801DFE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4AFD1-0077-4742-B1BB-6394079DA596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18E56-2804-4D33-B2B3-78B34573F167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46FBB-3C28-4D72-8F9F-ECAE20EBCF39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46D27-3010-40F3-933D-1E40E2D2994C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AEF8E-FA7E-4AD0-BEA7-5530418C9EC9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E73BC-1287-4BBF-8C64-CFB1475F01CA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1" descr="LastScan.bmp"/>
          <p:cNvPicPr/>
          <p:nvPr/>
        </p:nvPicPr>
        <p:blipFill>
          <a:blip r:embed="rId1"/>
          <a:stretch/>
        </p:blipFill>
        <p:spPr>
          <a:xfrm>
            <a:off x="762120" y="1219320"/>
            <a:ext cx="7467480" cy="5410080"/>
          </a:xfrm>
          <a:prstGeom prst="rect">
            <a:avLst/>
          </a:prstGeom>
          <a:ln w="0">
            <a:noFill/>
          </a:ln>
        </p:spPr>
      </p:pic>
      <p:sp>
        <p:nvSpPr>
          <p:cNvPr id="352" name="TextBox 7"/>
          <p:cNvSpPr/>
          <p:nvPr/>
        </p:nvSpPr>
        <p:spPr>
          <a:xfrm>
            <a:off x="1295280" y="0"/>
            <a:ext cx="6019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Century Schoolbook"/>
              </a:rPr>
              <a:t>MONDAY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7200" y="9144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f Kathy sells 8 cups of lemonade, how much money will she make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Century Schoolbook"/>
              </a:rPr>
              <a:t>TUESDAY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7200" y="990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If Kathy fills 4 more cups, sells 2 of them, then fills 6 more cups, how many cups of lemonade will she have then?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Century Schoolbook"/>
              </a:rPr>
              <a:t>WEDNESDAY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57200" y="12189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f a pitcher holds 15 ounces of lemonade, how many full cups will Kathy be able to pour from 1 pitcher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Century Schoolbook"/>
              </a:rPr>
              <a:t>THURSDAY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380880" y="990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f Kathy stops selling lemonade after 1 hour, what time will it be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467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Century Schoolbook"/>
              </a:rPr>
              <a:t>FRIDAY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f a friend buys 3 cups of lemonade with a half dollar, how much money will Kathy give back to her friend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8T03:23:35Z</dcterms:created>
  <dc:creator> </dc:creator>
  <dc:description/>
  <dc:language>en-US</dc:language>
  <cp:lastModifiedBy>127partidak</cp:lastModifiedBy>
  <dcterms:modified xsi:type="dcterms:W3CDTF">2011-10-25T21:10:29Z</dcterms:modified>
  <cp:revision>8</cp:revision>
  <dc:subject/>
  <dc:title>Slide 1</dc:title>
</cp:coreProperties>
</file>